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A00-8BE2-4C77-A2D6-E1EDCAFC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042-4255-4A85-B96D-813F3024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D4E-7CF4-4BAC-A6C1-BBDF8F48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4D7-80B1-4C0E-B94B-5DB77683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49D-19D6-4978-BD6A-FA520C8C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813-6A6E-4125-BE7C-4E62CF08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309-365B-4EE0-8CD5-F3A77474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6C3-6A70-441E-8AFF-1B677217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8F3-1ABF-448B-AF0B-682E0D15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B09-D43C-4C73-94AB-9A559786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994-07C6-480D-BF54-79D02E37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048-E06E-4486-89C7-1F3DDA6C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8C49-D25D-48E6-9DBE-660BAF37F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4920" y="1639800"/>
            <a:ext cx="667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 --- like simpl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or leveraged credit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banking system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ed markets --- like transpar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840" y="1639800"/>
            <a:ext cx="598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the future for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vergence with OTC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OTC instruments are beco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oditised --- ie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llateralised --- ie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omated --- ie trans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 like currency fu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760" y="1639800"/>
            <a:ext cx="698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960" y="1639800"/>
            <a:ext cx="887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8% of global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1.2% of global forward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5% of all futures contracts outst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currency futures contracts have been deli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futures exchanges have delisted all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42960" y="446040"/>
          <a:ext cx="7607160" cy="58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46040"/>
                    <a:ext cx="760716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7960" y="15494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182880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828800"/>
            <a:ext cx="17524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1560" y="15238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ia &amp;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190512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2760" y="3886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952880" y="41911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040" y="1639800"/>
            <a:ext cx="81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 ---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important for CME &amp; B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Latin America, currency futures = 11% of all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639800"/>
            <a:ext cx="69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global in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ocal 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8880" y="1639800"/>
            <a:ext cx="896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are forward FX contr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2 types of forward FX contra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--- used for currency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--- used for interest rate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rate risk management is more impor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= outright forw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= USD 131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= USD 656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role for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6360" y="1639800"/>
            <a:ext cx="861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ovative contract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Rolling Spot contracts (exchange-traded FX swa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contracts spec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mpts to increase deal size to OTC level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order faciliti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for physical facili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market-makin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5280" y="1639800"/>
            <a:ext cx="764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sation --- inflexible bu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anteed settlement --- inconvenient but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-trading --- transparent but f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22:10:34Z</dcterms:created>
  <dc:creator>Richard Comotto</dc:creator>
  <dc:description/>
  <dc:language>en-US</dc:language>
  <cp:lastModifiedBy>GÜNHAN GÜNEÇ</cp:lastModifiedBy>
  <dcterms:modified xsi:type="dcterms:W3CDTF">2001-11-19T08:03:53Z</dcterms:modified>
  <cp:revision>7</cp:revision>
  <dc:subject/>
  <dc:title>The role of currency futures in global financial markets</dc:title>
</cp:coreProperties>
</file>